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96396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2734C1C-C809-4BA2-A55A-E9A25B288DD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DA31EE9-DEFF-4175-B89F-BD1463A398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96D4659-A0F0-430B-8412-206357D6846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886BC0D-4439-4D87-B144-931BDE3CF04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AB74CC-6512-4B37-913D-6195BC6223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2FD7E2D-B4B3-4D49-AE4A-083BC919123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CDF3357-CEBB-4A88-9A82-318230645AB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95A5828-C639-42CE-A4C3-007CD914CD3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63F92E0-2305-4EA4-BC01-8763A5E835B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B200BC6-3668-46DA-9F83-DE8BA1940D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1D78E47-DD2F-4708-849E-50A8EBA5F1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03DD635-304E-437E-B966-DA364D99700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279AE1E-2B4D-4A30-8A37-64C088335A8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F924F42-8FB9-477A-97EE-A67457DF3C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373C82C-144E-4FE8-9449-358CB73D70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22200" y="72864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49ED1D2-F8E7-41E9-9D84-746DBAD956AA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9E4272A-73D5-463E-AB4C-F076D99DA24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2056"/>
          <p:cNvSpPr/>
          <p:nvPr/>
        </p:nvSpPr>
        <p:spPr>
          <a:xfrm>
            <a:off x="4209840" y="6567480"/>
            <a:ext cx="797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une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87200" y="888480"/>
            <a:ext cx="80564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art I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SP1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3083"/>
          <p:cNvGraphicFramePr/>
          <p:nvPr/>
        </p:nvGraphicFramePr>
        <p:xfrm>
          <a:off x="625320" y="1204920"/>
          <a:ext cx="3784680" cy="54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Object 308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204920"/>
                    <a:ext cx="3784680" cy="540396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fter Develop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12840" y="1486080"/>
            <a:ext cx="37911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ter development, use your object LOC counter to measure object and program siz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actual size on the size estimating templat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size data is linked to the project plan summ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3079"/>
          <p:cNvSpPr/>
          <p:nvPr/>
        </p:nvSpPr>
        <p:spPr>
          <a:xfrm flipH="1" flipV="1">
            <a:off x="4192200" y="2058480"/>
            <a:ext cx="733320" cy="82260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Line 3080"/>
          <p:cNvSpPr/>
          <p:nvPr/>
        </p:nvSpPr>
        <p:spPr>
          <a:xfrm flipH="1">
            <a:off x="4118040" y="2847960"/>
            <a:ext cx="797040" cy="157176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16"/>
          <p:cNvGraphicFramePr/>
          <p:nvPr/>
        </p:nvGraphicFramePr>
        <p:xfrm>
          <a:off x="912960" y="2878200"/>
          <a:ext cx="3419280" cy="339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2878200"/>
                    <a:ext cx="3419280" cy="339552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ctual LOC/Hou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01360" y="1438200"/>
            <a:ext cx="79311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LOC/hour is calculated using actual Total New and Changed and Total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LOC/Hour = 6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6/422 = 32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5"/>
          <p:cNvSpPr/>
          <p:nvPr/>
        </p:nvSpPr>
        <p:spPr>
          <a:xfrm>
            <a:off x="2714760" y="5956200"/>
            <a:ext cx="387360" cy="24156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3038400" y="4527720"/>
            <a:ext cx="387360" cy="24120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3048120" y="3413160"/>
            <a:ext cx="387360" cy="24120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o Date LOC/Hou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03160" y="1422360"/>
            <a:ext cx="81043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ate LOC/Hour is calculated in the same mann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ate LOC/Hour = 6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39/1850 = 20.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909720" y="2700360"/>
            <a:ext cx="3419280" cy="3395520"/>
            <a:chOff x="909720" y="2700360"/>
            <a:chExt cx="3419280" cy="3395520"/>
          </a:xfrm>
        </p:grpSpPr>
        <p:graphicFrame>
          <p:nvGraphicFramePr>
            <p:cNvPr id="212" name="Object 9"/>
            <p:cNvGraphicFramePr/>
            <p:nvPr/>
          </p:nvGraphicFramePr>
          <p:xfrm>
            <a:off x="909720" y="2700360"/>
            <a:ext cx="3419280" cy="3395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3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09720" y="2700360"/>
                      <a:ext cx="3419280" cy="339552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4" name="Oval 10"/>
            <p:cNvSpPr/>
            <p:nvPr/>
          </p:nvSpPr>
          <p:spPr>
            <a:xfrm>
              <a:off x="3273480" y="5788080"/>
              <a:ext cx="387360" cy="241200"/>
            </a:xfrm>
            <a:prstGeom prst="ellipse">
              <a:avLst/>
            </a:prstGeom>
            <a:noFill/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5" name="Oval 11"/>
            <p:cNvSpPr/>
            <p:nvPr/>
          </p:nvSpPr>
          <p:spPr>
            <a:xfrm>
              <a:off x="3807000" y="4330800"/>
              <a:ext cx="387000" cy="241200"/>
            </a:xfrm>
            <a:prstGeom prst="ellipse">
              <a:avLst/>
            </a:prstGeom>
            <a:noFill/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6" name="Oval 12"/>
            <p:cNvSpPr/>
            <p:nvPr/>
          </p:nvSpPr>
          <p:spPr>
            <a:xfrm>
              <a:off x="3816360" y="3216240"/>
              <a:ext cx="387360" cy="241200"/>
            </a:xfrm>
            <a:prstGeom prst="ellipse">
              <a:avLst/>
            </a:prstGeom>
            <a:noFill/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st Report Templat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02800" y="1434960"/>
            <a:ext cx="782820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is form to record data on each of your te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test was ru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test data were us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that were ob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ful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ing and recording test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forming regression te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page 620 of the textbook for further detai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accuracy will fluctu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estimates will have some bi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adjusts for bias using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ineering judgment is still requ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26560" y="1438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new elements of PSP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PSP1 process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use PSP1 for assignment 4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 Objectiv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01720" y="1438200"/>
            <a:ext cx="7740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of PSP1 is to establish an orderly and repeatable procedure for developing software size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ew Process El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three new process elements for PSP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size estima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Plan Summary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14320" y="1438200"/>
            <a:ext cx="76773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walk through an example of a completed PSP1 project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new items on this form are illustra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1"/>
          <p:cNvGraphicFramePr/>
          <p:nvPr/>
        </p:nvGraphicFramePr>
        <p:xfrm>
          <a:off x="5083200" y="2238480"/>
          <a:ext cx="2824200" cy="407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3200" y="2238480"/>
                    <a:ext cx="2824200" cy="407016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18"/>
          <p:cNvGraphicFramePr/>
          <p:nvPr/>
        </p:nvGraphicFramePr>
        <p:xfrm>
          <a:off x="625320" y="1173240"/>
          <a:ext cx="3784680" cy="5403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5320" y="1173240"/>
                    <a:ext cx="3784680" cy="540360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428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lanned Siz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27520" y="1407600"/>
            <a:ext cx="3703680" cy="51181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5000"/>
              </a:lnSpc>
              <a:spcAft>
                <a:spcPts val="788"/>
              </a:spcAft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from the size estimating template is linked to the project plan summ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3584520" y="1895400"/>
            <a:ext cx="2702160" cy="110196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584520" y="2048040"/>
            <a:ext cx="2692440" cy="106344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3811680" y="3636720"/>
            <a:ext cx="2463840" cy="145404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3584520" y="2200320"/>
            <a:ext cx="2702160" cy="105408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Line 14"/>
          <p:cNvSpPr/>
          <p:nvPr/>
        </p:nvSpPr>
        <p:spPr>
          <a:xfrm flipV="1">
            <a:off x="3811680" y="3770280"/>
            <a:ext cx="2454120" cy="147312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15"/>
          <p:cNvSpPr/>
          <p:nvPr/>
        </p:nvSpPr>
        <p:spPr>
          <a:xfrm flipV="1">
            <a:off x="3813120" y="4054320"/>
            <a:ext cx="2454480" cy="65736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3811680" y="3503160"/>
            <a:ext cx="2454120" cy="97812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Line 17"/>
          <p:cNvSpPr/>
          <p:nvPr/>
        </p:nvSpPr>
        <p:spPr>
          <a:xfrm flipV="1">
            <a:off x="3811680" y="3912840"/>
            <a:ext cx="2454120" cy="148284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1034"/>
          <p:cNvGraphicFramePr/>
          <p:nvPr/>
        </p:nvGraphicFramePr>
        <p:xfrm>
          <a:off x="625320" y="1262160"/>
          <a:ext cx="3784680" cy="540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Object 10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262160"/>
                    <a:ext cx="3784680" cy="540360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Object 1035"/>
          <p:cNvGraphicFramePr/>
          <p:nvPr/>
        </p:nvGraphicFramePr>
        <p:xfrm>
          <a:off x="5197320" y="2882880"/>
          <a:ext cx="2541600" cy="3664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5" name="Object 10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7320" y="2882880"/>
                    <a:ext cx="2541600" cy="36640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428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lanned Development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10080" y="1806480"/>
            <a:ext cx="46339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imated development time is linked to the project plan summ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1032"/>
          <p:cNvSpPr/>
          <p:nvPr/>
        </p:nvSpPr>
        <p:spPr>
          <a:xfrm flipV="1">
            <a:off x="4267080" y="5248080"/>
            <a:ext cx="1981440" cy="368280"/>
          </a:xfrm>
          <a:prstGeom prst="line">
            <a:avLst/>
          </a:prstGeom>
          <a:ln w="12600">
            <a:solidFill>
              <a:srgbClr val="99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7"/>
          <p:cNvGraphicFramePr/>
          <p:nvPr/>
        </p:nvGraphicFramePr>
        <p:xfrm>
          <a:off x="4930920" y="1527120"/>
          <a:ext cx="3390840" cy="48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0920" y="1527120"/>
                    <a:ext cx="3390840" cy="48862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lanned LOC/Hou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02800" y="1434960"/>
            <a:ext cx="35053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/hour must be entered manually for program 4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LOC/hour is calculated us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lanned New and Changed L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otal Planned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LOC/Hour = 6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71/609 = 26.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6311880" y="2066760"/>
            <a:ext cx="387360" cy="24156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Oval 12"/>
          <p:cNvSpPr/>
          <p:nvPr/>
        </p:nvSpPr>
        <p:spPr>
          <a:xfrm>
            <a:off x="6273720" y="3133800"/>
            <a:ext cx="387360" cy="24120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6197760" y="4556160"/>
            <a:ext cx="387360" cy="24120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07T20:09:41Z</cp:lastPrinted>
  <dcterms:modified xsi:type="dcterms:W3CDTF">2018-09-06T00:17:11Z</dcterms:modified>
  <cp:revision>81</cp:revision>
  <dc:subject/>
  <dc:title>No Slide Title</dc:title>
</cp:coreProperties>
</file>